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47640" y="66600"/>
            <a:ext cx="11709360" cy="10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0692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5658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476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60692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5658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47640" y="66600"/>
            <a:ext cx="11709360" cy="10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58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476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58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0692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5658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476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60692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5658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47640" y="66600"/>
            <a:ext cx="11709360" cy="10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0692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5658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476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60692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5658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47640" y="66600"/>
            <a:ext cx="11709360" cy="10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0692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5658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476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60692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5658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647640" y="66600"/>
            <a:ext cx="11709360" cy="10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0692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5658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476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460692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85658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47640" y="66600"/>
            <a:ext cx="11709360" cy="10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58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476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58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47640" y="66600"/>
            <a:ext cx="11709360" cy="10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692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5658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476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0692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5658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47640" y="66600"/>
            <a:ext cx="11709360" cy="10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58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476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692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5658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47640" y="66600"/>
            <a:ext cx="11709360" cy="10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47640" y="66600"/>
            <a:ext cx="11709360" cy="10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692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5658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476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0692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5658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47640" y="66600"/>
            <a:ext cx="11709360" cy="10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0692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5658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476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60692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5658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47640" y="66600"/>
            <a:ext cx="11709360" cy="10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0692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5658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476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60692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5658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47640" y="66600"/>
            <a:ext cx="11709360" cy="10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47640" y="6027480"/>
            <a:ext cx="1170936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7760" y="226836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4764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47760" y="6027480"/>
            <a:ext cx="571392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0692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565840" y="226836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476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60692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565840" y="6027480"/>
            <a:ext cx="3770280" cy="343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6578280"/>
            <a:ext cx="1170936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424d44"/>
                </a:solidFill>
                <a:latin typeface="Palatino"/>
              </a:rPr>
              <a:t>Click to edit the title text format</a:t>
            </a:r>
            <a:endParaRPr b="0" lang="en-US" sz="75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7988040"/>
            <a:ext cx="117093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1000"/>
          </a:bodyPr>
          <a:p>
            <a:pPr indent="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Click to edit the outline text format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1" algn="ctr">
              <a:lnSpc>
                <a:spcPct val="110000"/>
              </a:lnSpc>
              <a:buClr>
                <a:srgbClr val="5d6a61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Second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2" algn="ctr">
              <a:lnSpc>
                <a:spcPct val="110000"/>
              </a:lnSpc>
              <a:buClr>
                <a:srgbClr val="5d6a61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Third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3" algn="ctr">
              <a:lnSpc>
                <a:spcPct val="110000"/>
              </a:lnSpc>
              <a:buClr>
                <a:srgbClr val="5d6a61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Fourth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4" algn="ctr">
              <a:lnSpc>
                <a:spcPct val="110000"/>
              </a:lnSpc>
              <a:buClr>
                <a:srgbClr val="5d6a61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Fifth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5" algn="ctr">
              <a:lnSpc>
                <a:spcPct val="110000"/>
              </a:lnSpc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Sixth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6" algn="ctr">
              <a:lnSpc>
                <a:spcPct val="110000"/>
              </a:lnSpc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Seventh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47640" y="647280"/>
            <a:ext cx="11709360" cy="845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408960" indent="-408960">
              <a:lnSpc>
                <a:spcPct val="120000"/>
              </a:lnSpc>
              <a:spcBef>
                <a:spcPts val="4700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24d44"/>
                </a:solidFill>
                <a:latin typeface="Palatino"/>
              </a:rPr>
              <a:t>Click to edit the outline text format</a:t>
            </a:r>
            <a:endParaRPr b="0" lang="en-US" sz="4300" spc="-1" strike="noStrike">
              <a:solidFill>
                <a:srgbClr val="424d44"/>
              </a:solidFill>
              <a:latin typeface="Palatino"/>
            </a:endParaRPr>
          </a:p>
          <a:p>
            <a:pPr lvl="1" marL="724320" indent="-408600">
              <a:lnSpc>
                <a:spcPct val="120000"/>
              </a:lnSpc>
              <a:spcBef>
                <a:spcPts val="4700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24d44"/>
                </a:solidFill>
                <a:latin typeface="Palatino"/>
              </a:rPr>
              <a:t>Second Outline Level</a:t>
            </a:r>
            <a:endParaRPr b="0" lang="en-US" sz="4300" spc="-1" strike="noStrike">
              <a:solidFill>
                <a:srgbClr val="424d44"/>
              </a:solidFill>
              <a:latin typeface="Palatino"/>
            </a:endParaRPr>
          </a:p>
          <a:p>
            <a:pPr lvl="2" marL="1133280" indent="-408960">
              <a:lnSpc>
                <a:spcPct val="120000"/>
              </a:lnSpc>
              <a:spcBef>
                <a:spcPts val="4700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24d44"/>
                </a:solidFill>
                <a:latin typeface="Palatino"/>
              </a:rPr>
              <a:t>Third Outline Level</a:t>
            </a:r>
            <a:endParaRPr b="0" lang="en-US" sz="4300" spc="-1" strike="noStrike">
              <a:solidFill>
                <a:srgbClr val="424d44"/>
              </a:solidFill>
              <a:latin typeface="Palatino"/>
            </a:endParaRPr>
          </a:p>
          <a:p>
            <a:pPr lvl="3" marL="1542240" indent="-408960">
              <a:lnSpc>
                <a:spcPct val="120000"/>
              </a:lnSpc>
              <a:spcBef>
                <a:spcPts val="4700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24d44"/>
                </a:solidFill>
                <a:latin typeface="Palatino"/>
              </a:rPr>
              <a:t>Fourth Outline Level</a:t>
            </a:r>
            <a:endParaRPr b="0" lang="en-US" sz="4300" spc="-1" strike="noStrike">
              <a:solidFill>
                <a:srgbClr val="424d44"/>
              </a:solidFill>
              <a:latin typeface="Palatino"/>
            </a:endParaRPr>
          </a:p>
          <a:p>
            <a:pPr lvl="4" marL="1950840" indent="-408600">
              <a:lnSpc>
                <a:spcPct val="120000"/>
              </a:lnSpc>
              <a:spcBef>
                <a:spcPts val="4700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24d44"/>
                </a:solidFill>
                <a:latin typeface="Palatino"/>
              </a:rPr>
              <a:t>Fifth Outline Level</a:t>
            </a:r>
            <a:endParaRPr b="0" lang="en-US" sz="4300" spc="-1" strike="noStrike">
              <a:solidFill>
                <a:srgbClr val="424d44"/>
              </a:solidFill>
              <a:latin typeface="Palatino"/>
            </a:endParaRPr>
          </a:p>
          <a:p>
            <a:pPr lvl="5" marL="1950840" indent="-408600">
              <a:lnSpc>
                <a:spcPct val="120000"/>
              </a:lnSpc>
              <a:spcBef>
                <a:spcPts val="4700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24d44"/>
                </a:solidFill>
                <a:latin typeface="Palatino"/>
              </a:rPr>
              <a:t>Sixth Outline Level</a:t>
            </a:r>
            <a:endParaRPr b="0" lang="en-US" sz="4300" spc="-1" strike="noStrike">
              <a:solidFill>
                <a:srgbClr val="424d44"/>
              </a:solidFill>
              <a:latin typeface="Palatino"/>
            </a:endParaRPr>
          </a:p>
          <a:p>
            <a:pPr lvl="6" marL="1950840" indent="-408600">
              <a:lnSpc>
                <a:spcPct val="120000"/>
              </a:lnSpc>
              <a:spcBef>
                <a:spcPts val="4700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24d44"/>
                </a:solidFill>
                <a:latin typeface="Palatino"/>
              </a:rPr>
              <a:t>Seventh Outline Level</a:t>
            </a:r>
            <a:endParaRPr b="0" lang="en-US" sz="43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7640" y="60120"/>
            <a:ext cx="11709360" cy="221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1" marL="787320" indent="-444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2" marL="123192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3" marL="167652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4" marL="2120760" indent="-444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5" marL="2120760" indent="-444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6" marL="2120760" indent="-444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2628720"/>
            <a:ext cx="11709360" cy="450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424d44"/>
                </a:solidFill>
                <a:latin typeface="Palatino"/>
              </a:rPr>
              <a:t>Click to edit the title text format</a:t>
            </a:r>
            <a:endParaRPr b="0" lang="en-US" sz="75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7640" y="6578280"/>
            <a:ext cx="11709360" cy="2692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424d44"/>
                </a:solidFill>
                <a:latin typeface="Palatino"/>
              </a:rPr>
              <a:t>Click to edit the title text format</a:t>
            </a:r>
            <a:endParaRPr b="0" lang="en-US" sz="75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7280" y="647640"/>
            <a:ext cx="5854680" cy="425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424d44"/>
                </a:solidFill>
                <a:latin typeface="Palatino"/>
              </a:rPr>
              <a:t>Click to edit the title text format</a:t>
            </a:r>
            <a:endParaRPr b="0" lang="en-US" sz="75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47280" y="4889520"/>
            <a:ext cx="5854680" cy="421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24d44"/>
                </a:solidFill>
                <a:latin typeface="Hoefler Text"/>
              </a:rPr>
              <a:t>Click to edit the outline text format</a:t>
            </a:r>
            <a:endParaRPr b="0" i="1" lang="en-US" sz="3200" spc="-1" strike="noStrike">
              <a:solidFill>
                <a:srgbClr val="424d44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24d44"/>
                </a:solidFill>
                <a:latin typeface="Hoefler Text"/>
              </a:rPr>
              <a:t>Second Outline Level</a:t>
            </a:r>
            <a:endParaRPr b="0" i="1" lang="en-US" sz="3200" spc="-1" strike="noStrike">
              <a:solidFill>
                <a:srgbClr val="424d44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24d44"/>
                </a:solidFill>
                <a:latin typeface="Hoefler Text"/>
              </a:rPr>
              <a:t>Third Outline Level</a:t>
            </a:r>
            <a:endParaRPr b="0" i="1" lang="en-US" sz="3200" spc="-1" strike="noStrike">
              <a:solidFill>
                <a:srgbClr val="424d44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24d44"/>
                </a:solidFill>
                <a:latin typeface="Hoefler Text"/>
              </a:rPr>
              <a:t>Fourth Outline Level</a:t>
            </a:r>
            <a:endParaRPr b="0" i="1" lang="en-US" sz="3200" spc="-1" strike="noStrike">
              <a:solidFill>
                <a:srgbClr val="424d44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24d44"/>
                </a:solidFill>
                <a:latin typeface="Hoefler Text"/>
              </a:rPr>
              <a:t>Fifth Outline Level</a:t>
            </a:r>
            <a:endParaRPr b="0" i="1" lang="en-US" sz="3200" spc="-1" strike="noStrike">
              <a:solidFill>
                <a:srgbClr val="424d44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24d44"/>
                </a:solidFill>
                <a:latin typeface="Hoefler Text"/>
              </a:rPr>
              <a:t>Sixth Outline Level</a:t>
            </a:r>
            <a:endParaRPr b="0" i="1" lang="en-US" sz="3200" spc="-1" strike="noStrike">
              <a:solidFill>
                <a:srgbClr val="424d44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24d44"/>
                </a:solidFill>
                <a:latin typeface="Hoefler Text"/>
              </a:rPr>
              <a:t>Seventh Outline Level</a:t>
            </a:r>
            <a:endParaRPr b="0" i="1" lang="en-US" sz="3200" spc="-1" strike="noStrike">
              <a:solidFill>
                <a:srgbClr val="424d44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56120" y="2268360"/>
            <a:ext cx="560052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417600" indent="-417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1" marL="739800" indent="-417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2" marL="1157760" indent="-417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3" marL="1575720" indent="-417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4" marL="1993320" indent="-417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5" marL="1993320" indent="-417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6" marL="1993320" indent="-417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1170936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47640" y="2629080"/>
            <a:ext cx="11709360" cy="712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1" marL="787320" indent="-444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2" marL="123192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3" marL="167652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4" marL="2120760" indent="-444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5" marL="2120760" indent="-444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6" marL="2120760" indent="-444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47640" y="2268360"/>
            <a:ext cx="560088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417600" indent="-417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1" marL="739800" indent="-417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2" marL="1157760" indent="-417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3" marL="1575720" indent="-417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4" marL="1993320" indent="-417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5" marL="1993320" indent="-417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6" marL="1993320" indent="-417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47640" y="2268360"/>
            <a:ext cx="560088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417600" indent="-417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1" marL="739800" indent="-417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2" marL="1157760" indent="-417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3" marL="1575720" indent="-417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4" marL="1993320" indent="-417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5" marL="1993320" indent="-417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6" marL="1993320" indent="-417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1282680" y="1009800"/>
            <a:ext cx="4863960" cy="498456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47640" y="6578280"/>
            <a:ext cx="1170936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424d44"/>
                </a:solidFill>
                <a:latin typeface="Palatino"/>
              </a:rPr>
              <a:t>Human Trafficking USA</a:t>
            </a:r>
            <a:endParaRPr b="0" lang="en-US" sz="75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47640" y="7988040"/>
            <a:ext cx="117093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Nick Yun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6629400" y="1041480"/>
            <a:ext cx="486396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Palatino"/>
              </a:rPr>
              <a:t>Background INFO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14,500 to 17,500 people, primarily women and children, are trafficked to the U.S. annually. 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US is strongly committed to combatting trafficking domestically and internationally. 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Palatino"/>
              </a:rPr>
              <a:t>History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US Department of State began monitoring trafficking in persons in 1994, when the issue began to be covered in the Department’s Annual Country Reports on Human Rights Practices. 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Originally focused on women trafficking for sexual uses, but broadened to children and men  for all forms of forced labor. 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Palatino"/>
              </a:rPr>
              <a:t>International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24d44"/>
                </a:solidFill>
                <a:latin typeface="Palatino"/>
              </a:rPr>
              <a:t>The Office to Monitor and Combat Trafficking was created in the State Department </a:t>
            </a:r>
            <a:endParaRPr b="0" lang="en-US" sz="2300" spc="-1" strike="noStrike">
              <a:solidFill>
                <a:srgbClr val="424d44"/>
              </a:solidFill>
              <a:latin typeface="Palatino"/>
            </a:endParaRPr>
          </a:p>
          <a:p>
            <a:pPr lvl="1" marL="888840" indent="-44424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24d44"/>
                </a:solidFill>
                <a:latin typeface="Palatino"/>
              </a:rPr>
              <a:t>provides millions of dollars in grants to organizations all over the world</a:t>
            </a:r>
            <a:endParaRPr b="0" lang="en-US" sz="2300" spc="-1" strike="noStrike">
              <a:solidFill>
                <a:srgbClr val="424d44"/>
              </a:solidFill>
              <a:latin typeface="Palatino"/>
            </a:endParaRPr>
          </a:p>
          <a:p>
            <a:pPr lvl="1" marL="888840" indent="-44424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24d44"/>
                </a:solidFill>
                <a:latin typeface="Palatino"/>
              </a:rPr>
              <a:t>implemented several programs to combat trafficking including:</a:t>
            </a:r>
            <a:endParaRPr b="0" lang="en-US" sz="2300" spc="-1" strike="noStrike">
              <a:solidFill>
                <a:srgbClr val="424d44"/>
              </a:solidFill>
              <a:latin typeface="Palatino"/>
            </a:endParaRPr>
          </a:p>
          <a:p>
            <a:pPr lvl="2" marL="133344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24d44"/>
                </a:solidFill>
                <a:latin typeface="Palatino"/>
              </a:rPr>
              <a:t>disseminating information on the dangers of trafficking</a:t>
            </a:r>
            <a:endParaRPr b="0" lang="en-US" sz="2300" spc="-1" strike="noStrike">
              <a:solidFill>
                <a:srgbClr val="424d44"/>
              </a:solidFill>
              <a:latin typeface="Palatino"/>
            </a:endParaRPr>
          </a:p>
          <a:p>
            <a:pPr lvl="2" marL="133344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24d44"/>
                </a:solidFill>
                <a:latin typeface="Palatino"/>
              </a:rPr>
              <a:t>strengthening the capacity of non-governmental organizations to protect those groups from abuse and violence</a:t>
            </a:r>
            <a:endParaRPr b="0" lang="en-US" sz="2300" spc="-1" strike="noStrike">
              <a:solidFill>
                <a:srgbClr val="424d44"/>
              </a:solidFill>
              <a:latin typeface="Palatino"/>
            </a:endParaRPr>
          </a:p>
          <a:p>
            <a:pPr lvl="2" marL="133344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24d44"/>
                </a:solidFill>
                <a:latin typeface="Palatino"/>
              </a:rPr>
              <a:t>outreach and economic opportunity programs for those most at risk of being trafficked. </a:t>
            </a:r>
            <a:endParaRPr b="0" lang="en-US" sz="23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7640" y="66600"/>
            <a:ext cx="11709360" cy="220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Palatino"/>
              </a:rPr>
              <a:t>International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47640" y="2268360"/>
            <a:ext cx="11709360" cy="719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US has assisted countries to enact anti-trafficking legislation, trained law enforcement officials, prosecutors, border guards, and judicial officers.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US has provided equipment for anti--trafficking police equipment. 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